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03043"/>
        <c:axId val="6045593"/>
      </c:barChart>
      <c:catAx>
        <c:axId val="87103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5593"/>
        <c:crosses val="autoZero"/>
        <c:auto val="1"/>
        <c:lblAlgn val="ctr"/>
        <c:lblOffset val="100"/>
        <c:noMultiLvlLbl val="0"/>
      </c:catAx>
      <c:valAx>
        <c:axId val="6045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03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13E-FD26-4EFA-ACCD-89C16A7B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27B-CADF-4B36-B78A-935071BB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231-3AC0-457D-92CF-68ACAB2D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ADD-E766-4334-A550-7EE54765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B46-8CAB-4A35-B75D-E4283F5E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EDF-213D-4E4B-84FB-7E2BF8FC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CF6-2F79-4E8B-B61C-7DF86628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A6E-69B5-471F-B88A-029D1172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E7F-CA9E-4AA4-8231-D9499DA2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21A-E066-4F4E-A7C2-87FFD2AA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488-4EBC-447B-A86A-96414FAE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5A4-E0FC-42C7-86D4-3D28EC1C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9763A-E420-47FC-B76F-213316C265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