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904112"/>
        <c:axId val="29884361"/>
      </c:barChart>
      <c:catAx>
        <c:axId val="64904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84361"/>
        <c:crosses val="autoZero"/>
        <c:auto val="1"/>
        <c:lblAlgn val="ctr"/>
        <c:lblOffset val="100"/>
        <c:noMultiLvlLbl val="0"/>
      </c:catAx>
      <c:valAx>
        <c:axId val="29884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04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0A8-5F4A-43E1-A767-067ED45E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7C4-9FB1-4A74-8FB6-ADB78935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D82-D261-4604-8EB5-601BFD10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AE4-C505-4A28-B1AE-BF111AD6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5B6-84A5-4336-964E-FD3E9A2A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D0DC-FD6E-4055-8E32-E5E013EF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6B8-7915-43BE-86F9-E548018F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766-029A-493B-BCE9-59F39DD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97A-2D92-4AD3-8CB5-A85FB4F4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E4D-F89D-4696-BFF1-922EF4A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49E-1D22-4B95-83DB-A2D5949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021C-9C92-43B1-849C-AC379455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E4F56-21B7-4F42-857D-D75F5C0565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