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59547"/>
        <c:axId val="5690055"/>
      </c:barChart>
      <c:catAx>
        <c:axId val="27659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0055"/>
        <c:crosses val="autoZero"/>
        <c:auto val="1"/>
        <c:lblAlgn val="ctr"/>
        <c:lblOffset val="100"/>
        <c:noMultiLvlLbl val="0"/>
      </c:catAx>
      <c:valAx>
        <c:axId val="5690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9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9EA-655F-40DE-AB1C-5364CF0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10A-E090-4E1A-B410-26600DC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CB3-DE34-4206-ACBF-8FCE3930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67E-3D23-4FF3-AD99-04CC76C9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3DA-27C2-4134-95D2-2A29DF7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905-52BF-4882-A2F2-5E4B318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DC4-D2BC-4F10-9966-E83764F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CC6-2D2E-4290-9FC4-2783E54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FE6-F2AB-415D-9F7E-76C1AEF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55B-DBF7-4A6B-AF5A-7227075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3A9-54AC-4851-8A1F-76B70FC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234-30E9-481E-ABD4-CA4C431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0C926-D57B-445F-852C-74653820A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