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8258"/>
        <c:axId val="96432804"/>
      </c:barChart>
      <c:catAx>
        <c:axId val="4908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32804"/>
        <c:crosses val="autoZero"/>
        <c:auto val="1"/>
        <c:lblAlgn val="ctr"/>
        <c:lblOffset val="100"/>
        <c:noMultiLvlLbl val="0"/>
      </c:catAx>
      <c:valAx>
        <c:axId val="96432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8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A5A-9BB5-40EC-857E-17890254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309-831E-479C-8BD8-1F18A702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F52-0A41-48C5-A61D-313A3AB9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712-7B32-4248-93B0-58D7C1CE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E49-A6DE-4969-A8E7-262D7D06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3B3-1374-4CAC-B994-E637D5FC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AFD-CCD7-438E-8E91-2994BF48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CC7-2ED2-4760-AB69-9C81D5ED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349-866C-4DCB-B622-405D4682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DD1-6B15-45D3-9E8E-84549DE4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79B-C78A-41D2-9B82-0810CDDB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475-DB3E-4FA3-BDCD-0ECA2955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4FD0A-DD53-4E2F-BFCD-4B69012638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