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05871"/>
        <c:axId val="86862235"/>
      </c:barChart>
      <c:catAx>
        <c:axId val="189058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62235"/>
        <c:crosses val="autoZero"/>
        <c:auto val="1"/>
        <c:lblAlgn val="ctr"/>
        <c:lblOffset val="100"/>
        <c:noMultiLvlLbl val="0"/>
      </c:catAx>
      <c:valAx>
        <c:axId val="86862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058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7F6-A317-496B-8BF7-9A2774A9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E45-B5AB-4705-85E7-7F164865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40A-E7D4-456B-8F83-3F214B19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5DA-6324-4D1B-97E9-463724A8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4CE1-6A0C-4DE3-9145-ABBF46E8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5938-BBB1-4CDA-A4D4-2571B40E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18B-EE39-4761-A48D-530EE5FD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EA49-9DE6-4AEA-A553-78F1EE93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BE3-52C1-4DAB-AB97-F6E8E733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796D-A212-4925-9102-D7FA9BB8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F55-97DC-4F45-B1BF-C563F63D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798-C3C2-4E5E-8BB6-F67C80EC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50EC4-BB04-4970-990B-D7144FEC90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