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36898"/>
        <c:axId val="88843603"/>
      </c:barChart>
      <c:catAx>
        <c:axId val="31036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43603"/>
        <c:crosses val="autoZero"/>
        <c:auto val="1"/>
        <c:lblAlgn val="ctr"/>
        <c:lblOffset val="100"/>
        <c:noMultiLvlLbl val="0"/>
      </c:catAx>
      <c:valAx>
        <c:axId val="8884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36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06A-99D5-4463-9815-2FBB3FF8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DB2-FDB5-49E2-88DF-7919764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B3B-FD96-478A-9733-0E9670CD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B5A-74DC-41C1-B1D0-C8E20675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B00-3128-45DC-B40F-A1A630C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6B5-7111-40FB-BEC3-325E162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AAC-A352-4CE5-B0F6-E0965DB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630-7AA6-4FF7-B15D-8EF4C2B4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FE0-4042-4CAA-905B-62DCFE35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641-0995-4AF1-A71F-12639FE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01C-7330-4EC0-B9C4-45AFE6B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576-880A-4704-87CD-631D68A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C0346-ABCE-4A90-9CAE-AFDE341A9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