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02856"/>
        <c:axId val="89856168"/>
      </c:barChart>
      <c:catAx>
        <c:axId val="40802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56168"/>
        <c:crosses val="autoZero"/>
        <c:auto val="1"/>
        <c:lblAlgn val="ctr"/>
        <c:lblOffset val="100"/>
        <c:noMultiLvlLbl val="0"/>
      </c:catAx>
      <c:valAx>
        <c:axId val="89856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02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52A-580A-4BD9-8CEB-A073E64D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2F7-664D-47AD-90ED-65C2E1FF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A87-DEDF-438D-846E-6F3C8DCD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BED-659A-4901-B1FE-ACAD8F81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3AB-FAAA-4FA2-A61A-53EB714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C04-5CAC-450B-8815-E240DD4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595-E7B8-48E5-9965-5415A46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4A8-232E-45C7-B7DF-B6E03518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0E7-0A50-40C5-A1A8-82614288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1DF-95E6-4446-B855-B448149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4AD-2026-458B-AB67-AB346FF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7B2-3EC5-49F5-8D8F-D428833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7B0A9-7551-420D-A450-A6F3C9155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